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ADC09-569E-4695-B52A-193933938E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35540-B873-4D0E-9950-A267498B8E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38F6F-47DE-4E68-83BC-D7F857E33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E3394-E9E5-41F3-89DA-BAB56BC83B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55A35-8E3A-40D8-A98F-7177BF940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C710C-BDDC-42BB-A004-CB19239D37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A65C4-4B6B-4032-969E-EA763E3D5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9AFA7-DAA1-4C11-B21B-FDCD2F4B2F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5A665-53D0-480E-B5E1-FD842164B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34763-24E4-4C59-9B13-E6AE9F9E10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D2ED3-F60B-47FC-807C-62AF2F8B5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5B71A-3232-4E6F-8A3C-483447C15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718C6-5153-4B52-BC46-98B65C38A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5E531-6892-4C7D-97C0-FA4A3D0CE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426E5-6EFB-471C-BE6B-2F5DEAB8A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4A452-DD90-4A22-93C7-2A2A71BCD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8EBBA-0B4C-4844-92C6-502887BEB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166B0-31FC-4196-AFE6-0CC9253C8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FCEB6-4842-4EAF-8258-4ECF9EF8A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9B455-5DD5-414F-A6A7-7314FBBDD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9D429-26E2-4266-978D-E3F53A6AAB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F85CE-67B1-41AB-B354-45C452408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9C803-A1F7-432B-A2D2-B7980008A7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E1350-079B-41EF-98AE-53E6806ED8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47EEF-EAAD-4295-8061-30D398A505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A2252-0632-428C-8253-5FDFE9680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F7B3C-EF17-4785-B75B-18906E2898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49137-17D2-4958-8683-636980B91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5FA96-4296-4C0D-9C62-A735E1C0BC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89A8E-0C99-442E-A1D7-F08C477FCB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911C5-99D1-4B57-8B63-213D5BEFE7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1DB8D-41DC-40ED-A64C-64B97C6C7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9F216-55E4-46B6-83C2-CCAFECF0BD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7B2BC-B630-4978-95CA-7F4915F805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89EF3-D7DA-4984-A0B8-2348653C1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BD111-89AF-4FD2-8984-7F09BD70E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FFC2A-AA11-424E-A353-D812F7623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5F460-04AE-4715-9CFD-0A128124E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4B3-B7C8-4524-9833-E8BA7D89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607F-0F63-4FDC-A238-CB701266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489-B2CF-42A1-AF72-14CF37DE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7A90-0E8B-435E-8A86-58FC8EB1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C2C-D573-434F-8149-38775128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1D6-A420-415E-B8DF-ED10A673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AED3-AA95-4EA1-9FD7-3B6F41FE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772F-2663-4439-AC93-7209E4C1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7F28-DFBD-43FF-82ED-AECA4655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0EA-7901-48A9-9D09-E69925B0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DD98-9F29-4E95-B716-B55B2CD8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6B0C-DE4E-4D36-95C1-A6D0A26C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BD7B7-11A9-4D0B-B99D-0DF03C62FA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143000" y="0"/>
            <a:ext cx="7772400" cy="7559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7777080" y="900000"/>
            <a:ext cx="9162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8458200" cy="7086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8282520" y="39528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828800" y="0"/>
            <a:ext cx="594360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8496360" y="324000"/>
            <a:ext cx="111744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7543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8426880" y="68436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7315200" cy="70866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8571240" y="53964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70866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8642880" y="53964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985680" y="179280"/>
            <a:ext cx="8458200" cy="73152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282520" y="39528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1143000" y="0"/>
            <a:ext cx="822960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8426880" y="61128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45720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8642880" y="39528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863640" y="0"/>
            <a:ext cx="8915400" cy="7543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8498160" y="61128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024360" y="2843280"/>
            <a:ext cx="44190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8458200" cy="66294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8101080" y="1042920"/>
            <a:ext cx="68364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2457360" cy="2371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3886200" y="228600"/>
            <a:ext cx="5486400" cy="67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5153040" y="457200"/>
            <a:ext cx="4448160" cy="3657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457200" y="45720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495360" y="5257800"/>
            <a:ext cx="2247840" cy="1762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200400" y="247680"/>
            <a:ext cx="643896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4816440" y="44280"/>
            <a:ext cx="5289480" cy="4131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3289320" cy="2801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3886200" y="384120"/>
            <a:ext cx="5943600" cy="44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257040" y="4572000"/>
            <a:ext cx="3400560" cy="2695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3513240" y="441360"/>
            <a:ext cx="608796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2743200" cy="2828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3657600" y="122400"/>
            <a:ext cx="7183440" cy="51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324000" y="4572000"/>
            <a:ext cx="287640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3876840" y="457200"/>
            <a:ext cx="620388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4343400" y="22860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274320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3679920" y="0"/>
            <a:ext cx="6400800" cy="4290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1085760" y="4572000"/>
            <a:ext cx="28004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601200" cy="7086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8858520" y="1908000"/>
            <a:ext cx="646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3917880" y="0"/>
            <a:ext cx="6162840" cy="4343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571680" y="3429000"/>
            <a:ext cx="26287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4114800" y="457200"/>
            <a:ext cx="5715000" cy="434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866880" y="4915080"/>
            <a:ext cx="187632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886200" y="1127160"/>
            <a:ext cx="571500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4114800" y="0"/>
            <a:ext cx="5486400" cy="7086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251460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4343400" y="162000"/>
            <a:ext cx="5553000" cy="5095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685800" y="4734000"/>
            <a:ext cx="23526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2743200" cy="2714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3886200" y="-15840"/>
            <a:ext cx="6203880" cy="48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2819520" cy="3286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-20520" y="1143000"/>
            <a:ext cx="1007892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3657600" y="104760"/>
            <a:ext cx="6172200" cy="583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485640" y="5029200"/>
            <a:ext cx="202896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8786880" y="466560"/>
            <a:ext cx="646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90360" y="0"/>
            <a:ext cx="9829800" cy="7543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8929800" y="324000"/>
            <a:ext cx="646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601200" cy="7086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8786880" y="466560"/>
            <a:ext cx="646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914400" y="144360"/>
            <a:ext cx="845820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8571240" y="611280"/>
            <a:ext cx="646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9144000" y="466560"/>
            <a:ext cx="6508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7543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9218880" y="324000"/>
            <a:ext cx="646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3:25:21Z</dcterms:created>
  <dc:creator>Englipedia</dc:creator>
  <dc:description/>
  <dc:language>en-US</dc:language>
  <cp:lastModifiedBy>Toshiba-User</cp:lastModifiedBy>
  <dcterms:modified xsi:type="dcterms:W3CDTF">2018-09-25T23:18:15Z</dcterms:modified>
  <cp:revision>4</cp:revision>
  <dc:subject/>
  <dc:title>スライド 1</dc:title>
</cp:coreProperties>
</file>