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3503-E291-4203-B1E2-C402D5021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13A2-3064-4EBB-944D-95676A523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52E8-4DB2-4888-BD3E-E820F1919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01ABD-19CF-42BD-A37D-46EF294B9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0E242-B394-4796-8445-1558C11FA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DBE6D-3F30-4CCD-8CF1-434725213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0BCC6-45F9-48F5-8D07-DE4221880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8BFF8-8957-49CB-90BE-9A61D68FD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5EA01-5643-4773-8940-E5134D2DA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912B8-107A-4B70-8DD7-1DB34E9C5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56344-7783-4F7E-8BA7-0FB8B203C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B824-9C47-4424-AA40-4CFACD4D7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68070-F39F-4357-AF7B-09CCCDB9D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CD24-4F71-41C2-9400-A38D44098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05CB3-4E58-4621-8347-DC8F046CD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C5DBA-90AB-41F8-A410-C881A7180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CDF7-FE4A-449D-BB2B-45E9EEFB3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6541F-4C7E-4883-878E-1ECE29713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01F47-590E-4CE9-979F-AD539338C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0348F-115F-4B93-8D2C-343A40681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D8632-79D9-40B3-B392-C865E70FA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0580-A0BD-480C-90B8-0A8149B29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F4A7C-A27B-40A4-AB53-8471EC0A9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0D2D-15C7-4887-BCDA-60F887326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7DC19-B340-443F-BA83-8FFB20BE1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BA38-7BAA-4AE2-BBED-6175AA52A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B6F81-9C42-4958-AC00-444A1FB41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D46BB-0108-4175-8FBC-A74B7FAB0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0B21E-3F39-4D13-9441-722B82E17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A38C8-AC43-483D-91A5-EEC69FE65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C1E95-716A-463A-8059-B5CD3F5AC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17165-98DF-4E60-8C61-E9D18D3A8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DE808-FA39-46C9-8F6A-17FCCAA65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A2297-F051-435A-BEF1-8C5ECE41E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58B2-770C-44B0-994B-9748235AD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07C2-28B8-417C-B2BA-21D86DDDF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37A68-7E35-4FF4-8228-90BCFA491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1E1AA-FC79-4113-9F02-E3F9C3D28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CF1-078D-4BB6-B3B8-3BEF8AFF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291-6B2A-4016-AFD8-883F16B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3A3-69EC-46B7-AF48-2EC1FA57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FE0-3F2E-49D6-98AE-52610381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CB3-EC09-4910-B1B6-01FF640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25D-3D7D-4936-BEB6-B2952ED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B56-8FEC-4EC4-B940-1EA25F54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619-64F1-44B8-9FB6-1FA88D57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353-AE9D-42A0-B673-EB65EBB5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8B6-5B00-4E7D-9393-66A4BF9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62E-5E9C-4D74-A4DA-0D79DDE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962-CDBA-40BF-BE91-1BF0B85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3603B-CA65-42CF-81AC-818D1B00B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777240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777080" y="900000"/>
            <a:ext cx="916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845820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94360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8496360" y="324000"/>
            <a:ext cx="1117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8426880" y="68436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1520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857124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864288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985680" y="17928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22960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842688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864288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863640" y="0"/>
            <a:ext cx="891540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849816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24360" y="2843280"/>
            <a:ext cx="44190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101080" y="1042920"/>
            <a:ext cx="683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2457360" cy="237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548640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5153040" y="457200"/>
            <a:ext cx="444816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95360" y="5257800"/>
            <a:ext cx="224784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200400" y="247680"/>
            <a:ext cx="64389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816440" y="44280"/>
            <a:ext cx="5289480" cy="413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289320" cy="280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886200" y="384120"/>
            <a:ext cx="594360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57040" y="4572000"/>
            <a:ext cx="3400560" cy="269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513240" y="441360"/>
            <a:ext cx="608796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657600" y="122400"/>
            <a:ext cx="7183440" cy="51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24000" y="4572000"/>
            <a:ext cx="2876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876840" y="457200"/>
            <a:ext cx="620388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27432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679920" y="0"/>
            <a:ext cx="6400800" cy="429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085760" y="4572000"/>
            <a:ext cx="2800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8858520" y="1908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17880" y="0"/>
            <a:ext cx="61628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26287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66880" y="4915080"/>
            <a:ext cx="18763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886200" y="1127160"/>
            <a:ext cx="57150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114800" y="0"/>
            <a:ext cx="5486400" cy="708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25146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4343400" y="162000"/>
            <a:ext cx="5553000" cy="509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85800" y="4734000"/>
            <a:ext cx="23526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74320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86200" y="-15840"/>
            <a:ext cx="620388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19520" cy="328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20520" y="1143000"/>
            <a:ext cx="1007892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57600" y="104760"/>
            <a:ext cx="6172200" cy="583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5029200"/>
            <a:ext cx="202896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0360" y="0"/>
            <a:ext cx="9829800" cy="7543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92980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914400" y="14436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8571240" y="61128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9144000" y="466560"/>
            <a:ext cx="6508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921888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5:21Z</dcterms:created>
  <dc:creator>Englipedia</dc:creator>
  <dc:description/>
  <dc:language>en-US</dc:language>
  <cp:lastModifiedBy>Toshiba-User</cp:lastModifiedBy>
  <dcterms:modified xsi:type="dcterms:W3CDTF">2018-09-25T23:18:15Z</dcterms:modified>
  <cp:revision>4</cp:revision>
  <dc:subject/>
  <dc:title>スライド 1</dc:title>
</cp:coreProperties>
</file>