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5CC6F-C663-4168-B041-691AB6EFE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27BEE-C076-4B27-95FC-C9AB39DC1F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8F753-CC2C-4362-BA7C-A95855431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07220-C527-4BC1-BF2F-1FBD604FD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560B1-60F9-4893-8AFF-B41F2FC5B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68358-9D96-4F1E-8737-004B54FCA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EA897-782F-4CCE-A663-49D046F2C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923F0-9A37-4EC6-B173-B9159E28D5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51143-596D-44F1-AAD0-B7E0FE3D3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B6F7E-63A3-4D35-8ADD-F7F5B1EAC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64367-82DA-41F3-A3C1-99692C284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23831-C99C-4193-9C42-970B264D14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4C1DB-CF87-45BB-8CDA-04361451D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8F382-8A3F-490E-AC83-0687AA8768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DE61D-FAB6-4753-9281-76605107F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8B465-79E0-4F60-A862-F6D6F6DC73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06F56-E65D-4315-9D0D-199F120F0A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81AFA-4516-4CA0-AA05-DC45CB3E7B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D730C-20E1-480C-BCB6-7BE1B6D99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CCC93-7920-4EA5-A766-A6DC871B7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25D49-48CD-4D38-9C47-975C524D30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94A4C-EF16-49FE-9C7B-3F2E5F9A3E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AB970-069E-4CB5-BF69-99C24A708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81BCF-AA5D-4C36-9C8D-A3E683DAC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F1794-AE2E-4F59-925A-8E43AA5DF2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6FCAE-1813-4BEE-8777-5FAABD3144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3D8A6-5F9F-4DCD-94CE-62CAFE3B40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7C305-C044-4625-9DA0-8FBBF88AA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7ECE7-0C13-4F73-AF6B-668E97399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79411-CFE0-4F38-BA75-ED9F1CDE17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62A55-0731-447A-9505-C3440EF41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FAF73-AF0A-464A-AA5E-3033F3AB11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4BBDD-053D-4003-8A3E-B4A0CDC3A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7613C-08C1-4941-8DFC-0229A9F49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158A8-F10A-49CB-9E87-7E8B6D666D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E4F17-F5F2-4645-B153-4C0324F26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87AA3-354F-4B80-BB9C-BDD18CF1B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B0B08-0790-4403-A4CC-6482A6952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E534-9E80-475E-B8EB-658ECCCE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9E4-96C4-4705-9F04-5A0A61E2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E1E-365A-47E8-B081-0741749C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F00-C3A9-4A06-A15F-B785D0AB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7761-5F25-487E-80EF-D0CAD88C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531-ECD1-48D3-89B8-EBE21053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306-14FB-4F81-AF16-5ECEEA98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CA1-8DAF-4B6E-8438-AAF819E1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B9F-01E6-4BF5-819B-EE422E35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E7FB-C34F-44B1-90C3-3A449FB4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D6B5-A028-480A-B5CF-E43443EE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992-EB8E-4FD9-90E9-517BF55A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9E64D-2E1E-40D0-BDA9-C06B217775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143000" y="0"/>
            <a:ext cx="7772400" cy="7559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7777080" y="900000"/>
            <a:ext cx="9162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8458200" cy="7086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8282520" y="39528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828800" y="0"/>
            <a:ext cx="594360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8496360" y="324000"/>
            <a:ext cx="11174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7543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8426880" y="68436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7315200" cy="70866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8571240" y="53964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70866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8642880" y="53964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985680" y="179280"/>
            <a:ext cx="8458200" cy="73152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282520" y="39528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1143000" y="0"/>
            <a:ext cx="822960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8426880" y="61128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45720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8642880" y="39528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863640" y="0"/>
            <a:ext cx="8915400" cy="7543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8498160" y="611280"/>
            <a:ext cx="11134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024360" y="2843280"/>
            <a:ext cx="44190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SW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8458200" cy="66294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8101080" y="1042920"/>
            <a:ext cx="68364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2457360" cy="2371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3886200" y="228600"/>
            <a:ext cx="5486400" cy="67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5153040" y="457200"/>
            <a:ext cx="4448160" cy="3657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457200" y="45720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495360" y="5257800"/>
            <a:ext cx="2247840" cy="1762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200400" y="247680"/>
            <a:ext cx="643896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4816440" y="44280"/>
            <a:ext cx="5289480" cy="4131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3289320" cy="2801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886200" y="384120"/>
            <a:ext cx="5943600" cy="44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57040" y="4572000"/>
            <a:ext cx="3400560" cy="2695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3513240" y="441360"/>
            <a:ext cx="608796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2743200" cy="2828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3657600" y="122400"/>
            <a:ext cx="7183440" cy="51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324000" y="4572000"/>
            <a:ext cx="287640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3876840" y="457200"/>
            <a:ext cx="620388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1143000" y="3886200"/>
            <a:ext cx="274320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3679920" y="0"/>
            <a:ext cx="6400800" cy="4290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1085760" y="4572000"/>
            <a:ext cx="28004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8858520" y="1908000"/>
            <a:ext cx="64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3917880" y="0"/>
            <a:ext cx="6162840" cy="4343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571680" y="3429000"/>
            <a:ext cx="26287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4114800" y="457200"/>
            <a:ext cx="5715000" cy="4343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866880" y="4915080"/>
            <a:ext cx="18763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886200" y="1127160"/>
            <a:ext cx="5715000" cy="45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4114800" y="0"/>
            <a:ext cx="5486400" cy="7086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251460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4343400" y="162000"/>
            <a:ext cx="5553000" cy="5095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685800" y="4734000"/>
            <a:ext cx="23526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2743200" cy="2714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3886200" y="-15840"/>
            <a:ext cx="6203880" cy="48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2819520" cy="328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-20520" y="1143000"/>
            <a:ext cx="1007892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3657600" y="104760"/>
            <a:ext cx="6172200" cy="583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485640" y="5029200"/>
            <a:ext cx="202896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8786880" y="466560"/>
            <a:ext cx="64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90360" y="0"/>
            <a:ext cx="9829800" cy="7543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8929800" y="324000"/>
            <a:ext cx="64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01200" cy="7086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8786880" y="466560"/>
            <a:ext cx="64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914400" y="144360"/>
            <a:ext cx="845820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8571240" y="611280"/>
            <a:ext cx="64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77724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9144000" y="466560"/>
            <a:ext cx="6508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7543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9218880" y="324000"/>
            <a:ext cx="6469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3:25:21Z</dcterms:created>
  <dc:creator>Englipedia</dc:creator>
  <dc:description/>
  <dc:language>en-US</dc:language>
  <cp:lastModifiedBy>Toshiba-User</cp:lastModifiedBy>
  <dcterms:modified xsi:type="dcterms:W3CDTF">2018-09-25T23:18:15Z</dcterms:modified>
  <cp:revision>4</cp:revision>
  <dc:subject/>
  <dc:title>スライド 1</dc:title>
</cp:coreProperties>
</file>